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FC96-87CC-462F-96E4-A79003CA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BED1-1E57-49F0-B96F-5DAEB7E9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734-F1C0-4A48-B4A9-20E2C335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EC3-8EFC-41CA-AB6C-F3C6DA64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F0EF-17C5-467A-B611-D300B5FE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07D6-2C3E-46F4-8D93-D0484502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5CBA-66F3-4AAB-B1C2-19E480B7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3FB2-E18F-4AF3-A0FC-7DC6419F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E747-9B06-4E71-8D90-6EF62EA3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02E2-A6E3-4EDA-84F8-1F66295C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EE69-0DD7-4AAB-9AF8-8C011498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110-2EC5-45D8-A4F3-26493BC0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53D5-AC34-4916-B8F2-BC1928C2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E45D-8ACC-444D-90F0-148D2320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F7E7-DE87-426A-8247-2875F20D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4BFC-6EEA-41D0-8D90-ED612355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1CB4-1E04-4184-8613-6A0D09F1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9A81-7D2B-4454-851A-8A2A6F95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69F4-D9FD-499D-9134-C02A5B33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D95-FE3E-43B6-932C-EFE2280A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E311-C04A-4245-BC59-C61F9785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DA2-3EB2-4F00-864E-AB6C81FC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8101-F442-4ECA-9131-FA37F258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C6EF-8077-494A-9539-CE908E90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7391-A2F0-4376-911C-63008E4FAB83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C627-9964-4E52-933E-285EA07B2F00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338640" y="8064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66"/>
                </a:solidFill>
                <a:uFillTx/>
                <a:latin typeface="Times New Roman"/>
              </a:rPr>
              <a:t>Setting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09000" y="2228760"/>
            <a:ext cx="573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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mages in the stor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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Details written in the story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5920" y="4495680"/>
            <a:ext cx="85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Where does Charlotte’s Web take place?  SuperFudge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9920" y="518148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When does the story take place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84720" y="1184400"/>
            <a:ext cx="713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Sarah came in the spring.  She came through gree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rass fields that bloomed with Indian paintbrush, re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and orange, and blue-eye grass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5029200"/>
            <a:ext cx="531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Which words tell us about the setting?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0" y="3200400"/>
            <a:ext cx="728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Sarah sang us a song we had never heard before as w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sat on the porch, insects buzzing in the dark, the rustl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of cows in the grasses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34000" y="1085760"/>
            <a:ext cx="659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he written description of a setting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hould appeal to one or more of your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five senses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13880" y="3067200"/>
            <a:ext cx="1288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ouch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aste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mell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ound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igh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22560" y="1216080"/>
            <a:ext cx="6615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Could the story </a:t>
            </a:r>
            <a:r>
              <a:rPr b="1" lang="en-US" sz="4000" spc="-1" strike="noStrike" u="sng">
                <a:solidFill>
                  <a:srgbClr val="660066"/>
                </a:solidFill>
                <a:uFillTx/>
                <a:latin typeface="Times New Roman"/>
              </a:rPr>
              <a:t>Charlotte’s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0066"/>
                </a:solidFill>
                <a:uFillTx/>
                <a:latin typeface="Times New Roman"/>
              </a:rPr>
              <a:t>Web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have taken place at the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beach?  Why or why not? 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The setting of a story is some-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times so important that the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story couldn’t be told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without it! 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20040" y="1063800"/>
            <a:ext cx="50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Here’s your challenge!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3280" y="2209680"/>
            <a:ext cx="747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Think about the book you are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now reading for AR.  What is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the setting in your book.  Try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to think of the senses the author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used to help you visualize the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setting of the book.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9:31:34Z</dcterms:created>
  <dc:creator>User</dc:creator>
  <dc:description/>
  <dc:language>en-US</dc:language>
  <cp:lastModifiedBy>Rutherford County Schools</cp:lastModifiedBy>
  <dcterms:modified xsi:type="dcterms:W3CDTF">2007-04-21T15:54:35Z</dcterms:modified>
  <cp:revision>2</cp:revision>
  <dc:subject/>
  <dc:title>No Slide Title</dc:title>
</cp:coreProperties>
</file>